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476878"/>
        <c:axId val="8922602"/>
      </c:barChart>
      <c:catAx>
        <c:axId val="884768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2602"/>
        <c:crosses val="autoZero"/>
        <c:auto val="1"/>
        <c:lblAlgn val="ctr"/>
        <c:lblOffset val="100"/>
        <c:noMultiLvlLbl val="0"/>
      </c:catAx>
      <c:valAx>
        <c:axId val="89226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4768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A301-EF5E-4017-B389-8EB5F43DF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2A9-18B0-4CC5-B970-5D41D33F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E14B-BC7C-4AA7-B63C-0F93EFF05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6EC9-2532-4F54-B5BA-E4B6790A1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268D-A4F3-45BF-AE21-EF0E5D9D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513-1E90-45FF-8553-801D9777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CB6D-C1CF-407B-9517-931DCC0E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E226-FE79-421C-9777-D32733C2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9860-8D21-4344-913D-208F9627D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512-9B31-4694-B354-810F9121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6D95-C18E-4853-ACDA-F62CA9FE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A242-BF3E-4729-A60A-B0B41E56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6B776-F153-4522-9D49-0F7404375A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