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7717895"/>
        <c:axId val="97087569"/>
      </c:barChart>
      <c:catAx>
        <c:axId val="6771789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087569"/>
        <c:crosses val="autoZero"/>
        <c:auto val="1"/>
        <c:lblAlgn val="ctr"/>
        <c:lblOffset val="100"/>
        <c:noMultiLvlLbl val="0"/>
      </c:catAx>
      <c:valAx>
        <c:axId val="9708756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71789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4C6EF-2670-4434-A480-7FC3B94C8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2D6F0-E7E3-4044-9CE5-D86AE22FD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379B7-FACE-4095-8AB1-9ACF02875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4811D-86ED-439A-A021-193A8741C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A3D5D-36ED-42D1-BA8A-B81F4DEE4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40E17-FF39-488B-B735-A6B6372E4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7F73A-8507-42A5-B789-CBEFB6621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17474-F945-4F09-B675-499536C7A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26C88-6873-4192-A11D-30517CAF2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93B83-3BF5-4D76-95D5-A7D809837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1CE2F-4E1B-4B09-A98D-34BC62A70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9548E-621D-4F8C-9156-9FD148A60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9F0862-843A-4126-A712-05DCD2653FA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