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18682"/>
        <c:axId val="32321645"/>
      </c:barChart>
      <c:catAx>
        <c:axId val="964186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321645"/>
        <c:crosses val="autoZero"/>
        <c:auto val="1"/>
        <c:lblAlgn val="ctr"/>
        <c:lblOffset val="100"/>
        <c:noMultiLvlLbl val="0"/>
      </c:catAx>
      <c:valAx>
        <c:axId val="323216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86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1E04-D949-4AE8-8692-E64905E36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EC05-430F-4367-AF61-F34BC09B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791F-85C4-49B3-A990-87DB38DDD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5D1-234F-4C39-906F-568F75950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417-6DC1-464B-99A6-2ED471C7D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7EAD-FFBB-4EB6-925E-69ED1027F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9013-ADAD-431B-8798-FA2D4073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4A3-BA1B-4984-971E-935140D9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53FC-4332-42DF-8D5C-0CAF37458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E70F-0958-4FBB-BB78-5BBE95ED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8DC93-6466-41AF-9772-1BBA3562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20C9-9B55-4773-92E3-D52BD4D7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A80247-6D48-4589-8C67-89E8D57387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