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062433"/>
        <c:axId val="52527758"/>
      </c:barChart>
      <c:catAx>
        <c:axId val="820624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27758"/>
        <c:crosses val="autoZero"/>
        <c:auto val="1"/>
        <c:lblAlgn val="ctr"/>
        <c:lblOffset val="100"/>
        <c:noMultiLvlLbl val="0"/>
      </c:catAx>
      <c:valAx>
        <c:axId val="525277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624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8F8-C8CB-4444-9DC7-DEED9A51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93B-9A29-4481-A179-A7B4558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C1F0-E75C-4BAE-BBDD-F1ECF885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F0CC-7BB4-41D0-BFA7-F0BB4E8A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A1E-22BC-4903-A11A-4E59DCED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150-7638-468A-9571-C0A61030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A22-1C2F-4703-83C8-F92DF3B2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D2E-823D-4A30-9D47-5CD86C5C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9EB-0CE7-49A9-A32A-BC74C35BA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FA5-DB32-43FC-A9D3-BFBED9C6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AC36-28B4-4C35-8A41-85994745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3AB9-9A89-4775-9924-3AAA808C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7036B-F620-4611-8115-5FBB5004D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