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43450"/>
        <c:axId val="89131811"/>
      </c:barChart>
      <c:catAx>
        <c:axId val="93243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1811"/>
        <c:crosses val="autoZero"/>
        <c:auto val="1"/>
        <c:lblAlgn val="ctr"/>
        <c:lblOffset val="100"/>
        <c:noMultiLvlLbl val="0"/>
      </c:catAx>
      <c:valAx>
        <c:axId val="89131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43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5C5-DC7A-4C7F-9B24-DC75D68E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9D3-A7E4-4EF3-B83F-97ABD15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697-3D28-4D00-9A71-878DD0C6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CFB-BEF2-45A3-B90B-52582F38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015-24A0-48CB-9F72-EBC22AC8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0A6-AB94-4880-B12D-C911F5A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AE1-AD81-4088-B85E-5E9C015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7C0-78B6-44B4-8409-F7695F9C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E44-56E3-4C7E-92E1-0A3006E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321-9409-42F0-8E3A-97734466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776-E1EB-454F-9044-A858D03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97C-82B0-454F-9611-BFEB1EF1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B26C3-8652-400B-89D1-37B510588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