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0442"/>
        <c:axId val="21639989"/>
      </c:barChart>
      <c:catAx>
        <c:axId val="6480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39989"/>
        <c:crosses val="autoZero"/>
        <c:auto val="1"/>
        <c:lblAlgn val="ctr"/>
        <c:lblOffset val="100"/>
        <c:noMultiLvlLbl val="0"/>
      </c:catAx>
      <c:valAx>
        <c:axId val="21639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0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3A5-BB9B-44F7-B483-58240426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DB3-7D81-4AFE-B2D3-4C29723D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E6D-E8C2-4DE8-9CB9-318FBDC8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131-8523-432D-B9BB-9D02B831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0A9-9290-4115-8951-9DBF6776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3E3-3DEE-43F7-95CE-E6413EC5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EDC-9F6B-4208-AFC3-8D529C8E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856-95AC-4E71-80E4-47C198BA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98C-FD00-4A17-8516-F208ABF0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088B-BB61-4C6F-8F8D-DB3AC70C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887-FDDD-413A-BDB0-66718D07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401-50B9-4666-A8D5-B759E055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391F5-3042-4720-BA07-41F7491091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