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98782"/>
        <c:axId val="96915677"/>
      </c:barChart>
      <c:catAx>
        <c:axId val="28498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15677"/>
        <c:crosses val="autoZero"/>
        <c:auto val="1"/>
        <c:lblAlgn val="ctr"/>
        <c:lblOffset val="100"/>
        <c:noMultiLvlLbl val="0"/>
      </c:catAx>
      <c:valAx>
        <c:axId val="96915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98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4D7-2AD3-4F6C-8493-24A8AD2B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4C7-2853-4AC1-A1F2-CA0E2C9C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63B-0B27-49DF-93FF-30189F4A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FE3-A51B-4B60-B824-5079875C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70C-A6CA-42DD-9C43-F1B574EA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2CB-3094-4317-BADA-D9EF94FC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4B5-E4FE-4085-9286-EDD2EB1A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725-2C81-4073-8D47-8460C23A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F08-9C8A-4B58-BF53-98D3D75E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D85-903F-40C8-B5D4-4BBE0206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779-4959-473D-A678-5243E615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E29-6698-49EF-9218-DA8094F5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78290-747A-4F7B-9FB5-91CD027DAE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