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642608"/>
        <c:axId val="43969222"/>
      </c:barChart>
      <c:catAx>
        <c:axId val="48642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69222"/>
        <c:crosses val="autoZero"/>
        <c:auto val="1"/>
        <c:lblAlgn val="ctr"/>
        <c:lblOffset val="100"/>
        <c:noMultiLvlLbl val="0"/>
      </c:catAx>
      <c:valAx>
        <c:axId val="43969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42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599-0FF1-4AE6-BE70-46899985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B5A5-412B-41A1-8F1A-02BEC7AF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C1E-2983-4E5E-9042-A2F619A6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CF21-0F8F-43EE-BF47-313A417E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47F3-1A98-4F67-95F4-2966D924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894-9FF1-48FF-ADCE-C35172BF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5DB-7F88-4DB1-A525-A05ED450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8CB9-244D-446F-84DE-1A88938D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A9CD-1D8D-4C22-8B86-2882C49E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E1F3-8F31-4EB8-90F3-2A987B16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8BC5-94EB-4F55-B2D5-1E6DBF53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54BB-37D7-404C-8EAA-B005EC35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D3FBB-760C-4802-A37E-4736BD2A81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