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68316"/>
        <c:axId val="70031562"/>
      </c:barChart>
      <c:catAx>
        <c:axId val="41868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31562"/>
        <c:crosses val="autoZero"/>
        <c:auto val="1"/>
        <c:lblAlgn val="ctr"/>
        <c:lblOffset val="100"/>
        <c:noMultiLvlLbl val="0"/>
      </c:catAx>
      <c:valAx>
        <c:axId val="70031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68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FB2-168E-450E-8CA2-57F5F71C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931-866B-45D0-8B94-AD194020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713-0BD8-46A1-A384-2204181A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BE2-99F4-40B2-88AF-70D5D19F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44E-BF27-4464-B642-E3D52C64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DFB-4972-4DDC-92CF-7777E8E8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A00-724F-4DA9-84CE-612FF13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324-CCB4-45AD-BA88-5EB23FC4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DD7-2483-4E24-A7FC-A21FB650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D36-586A-4704-B606-CB5B327C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A76-737A-4FD7-88E8-F469270B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44A-0CC6-42EE-8F0F-2607C3E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99411-8A2F-4D93-8A33-81879B3BB9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