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448433"/>
        <c:axId val="36213438"/>
      </c:barChart>
      <c:catAx>
        <c:axId val="574484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213438"/>
        <c:crosses val="autoZero"/>
        <c:auto val="1"/>
        <c:lblAlgn val="ctr"/>
        <c:lblOffset val="100"/>
        <c:noMultiLvlLbl val="0"/>
      </c:catAx>
      <c:valAx>
        <c:axId val="362134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484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128D-0B45-43CB-8D09-023B9C387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6776-5817-4A6D-9A21-36D7CA7D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27A5-4365-4235-BD14-9A3A67FB8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96A6-5F18-4AC1-9A29-6FE373501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16A5-C7F0-46C4-B461-A87EDDA9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BCAD-E106-4524-A830-D9796CFB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3454-E5A6-4C19-827E-3EA4D1D1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C6C4-E349-4923-9A14-94ECC0C2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D964-2BDC-49E7-90BA-7DB67AC7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229B-D482-4D38-9462-ABC30D97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A4EC-38D3-426C-98D9-A4F53C13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7F45-52DF-45BD-B8AD-6B1E21A7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468A8-A65D-4931-8BF6-983E270534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