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13759"/>
        <c:axId val="81834400"/>
      </c:barChart>
      <c:catAx>
        <c:axId val="39513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34400"/>
        <c:crosses val="autoZero"/>
        <c:auto val="1"/>
        <c:lblAlgn val="ctr"/>
        <c:lblOffset val="100"/>
        <c:noMultiLvlLbl val="0"/>
      </c:catAx>
      <c:valAx>
        <c:axId val="81834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13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616-79DA-47C1-ACA4-54E93444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021-7057-41DC-9D82-FDB7B525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741-A437-4B00-B948-BBC0B514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01E-A561-49A3-AA4F-3CE17A27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93F-4281-4058-8F05-E647E69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C03-DF3E-46F9-AE97-197D9C9D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282-C0A5-4AE2-9DD0-9A84DAF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DCF-8515-4562-B843-01756D4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76A-3760-4237-AE43-C105152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D9C-19E1-4532-8745-587937C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B28-9A1A-48D8-8FCB-A5BEA86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8FC-049B-4D2F-B6FB-D1CB8FD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498A-C53A-4F1B-BE56-8D40ABAD5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