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45507"/>
        <c:axId val="71736280"/>
      </c:barChart>
      <c:catAx>
        <c:axId val="35455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36280"/>
        <c:crosses val="autoZero"/>
        <c:auto val="1"/>
        <c:lblAlgn val="ctr"/>
        <c:lblOffset val="100"/>
        <c:noMultiLvlLbl val="0"/>
      </c:catAx>
      <c:valAx>
        <c:axId val="717362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55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81BF-427C-4A67-A968-5FCCF472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058B-0F31-4AC3-9F57-A98AA5CA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8B1F-8ED8-45C5-958C-73C8BADF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52BE-45FF-4BD1-9A58-1C64DA82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D1AA-67B8-4241-A406-3A7B62ED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37B3-8253-437D-B62D-2EB13D5B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647D-9DF5-4F5C-BD31-2232779A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3B16-DFB6-4369-9CDD-DDD060A7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8308-5D26-47C7-A5D0-F7C07201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8C84-16FE-4722-AD99-C70CA67D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1F8-FDFF-497A-B637-2B2DA5A0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6A6-8A82-4604-91CE-EE87D121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77EE4-35E5-4EB0-A1B1-090CF1031C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