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49898"/>
        <c:axId val="20920564"/>
      </c:barChart>
      <c:catAx>
        <c:axId val="10549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0564"/>
        <c:crosses val="autoZero"/>
        <c:auto val="1"/>
        <c:lblAlgn val="ctr"/>
        <c:lblOffset val="100"/>
        <c:noMultiLvlLbl val="0"/>
      </c:catAx>
      <c:valAx>
        <c:axId val="20920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49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63A-AC89-4EA6-9AA0-1318333A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A4D-B5EE-437F-865F-11401174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571-AF0F-4A5B-9B30-96EAF62B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BCA-7037-40A2-818E-C2043CA9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891-1A88-4BF8-9B54-90C7434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433-0A4C-4463-885A-6AA2BA8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204-064F-4D0F-8BB3-4EBE7F47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C2D-684D-410B-B829-13557E79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E30-0AE0-4B7B-954C-4208287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441-C8F2-4B6B-9C4A-6C9D1E2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B4C-5FFE-4358-AF6E-79BE4DCA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70D-4687-4A4E-B093-374CF89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F847F-64A4-4EE1-AB1E-592829CEC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