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297731"/>
        <c:axId val="79674233"/>
      </c:barChart>
      <c:catAx>
        <c:axId val="582977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674233"/>
        <c:crosses val="autoZero"/>
        <c:auto val="1"/>
        <c:lblAlgn val="ctr"/>
        <c:lblOffset val="100"/>
        <c:noMultiLvlLbl val="0"/>
      </c:catAx>
      <c:valAx>
        <c:axId val="796742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2977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06D1-3C47-4331-9B5A-835426C85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39A3-DB7D-4B02-8751-EEED841A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792E-FE99-48F3-AD06-59863E89F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E50D-6CC3-4612-B4AE-1A53FC468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D777-CBE8-42B3-B225-AFD86095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6FCC-0087-4329-A8E7-333B055E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6569-881A-4E8E-8E87-B4B4F078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A943-400A-4CE9-A9BE-9283F9BD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08FD-B30E-4D5D-B383-9B358E38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D35C-7ACC-4612-8214-1DC658CA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5545-0D90-425A-B35D-DD3BD98B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DDBB-32D5-4137-8483-20254830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4826A-ADAF-42DE-93E6-4B4F94C373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