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299"/>
        <c:axId val="81052732"/>
      </c:barChart>
      <c:catAx>
        <c:axId val="2740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52732"/>
        <c:crosses val="autoZero"/>
        <c:auto val="1"/>
        <c:lblAlgn val="ctr"/>
        <c:lblOffset val="100"/>
        <c:noMultiLvlLbl val="0"/>
      </c:catAx>
      <c:valAx>
        <c:axId val="81052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E8C-CD2B-442C-AB1D-C83DD207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2D1-E9E1-4E58-B0AA-A366ED5E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6EC-40E2-4A0B-A87A-FE306FA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AA3-AD94-486F-AFFB-845B2153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3A3-143B-48FA-AE4E-8CEF84E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36B-D4CF-4F43-A15E-E6BCFB5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B8F-C777-4B0A-9CBB-7B90D5A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7C1-3FA9-4AFC-B0F6-AAB80250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DC0-1E55-4323-AB3A-A0E089DB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013-2017-4C89-97A2-9EF51E5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229-1339-41F4-ABAE-433839D3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61E-8096-4C5D-A9BB-8734413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CCA77-6157-4821-8D8A-B0484CA0A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