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831207"/>
        <c:axId val="71534151"/>
      </c:barChart>
      <c:catAx>
        <c:axId val="958312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534151"/>
        <c:crosses val="autoZero"/>
        <c:auto val="1"/>
        <c:lblAlgn val="ctr"/>
        <c:lblOffset val="100"/>
        <c:noMultiLvlLbl val="0"/>
      </c:catAx>
      <c:valAx>
        <c:axId val="715341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8312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1BD7-250D-4C1D-8EFB-4CCDE0D0A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7C38-5653-43E4-9B80-494D3937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8775-3142-44BB-96D3-E7957B31C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B6CF-DCF4-47B2-B4BE-CECCBEF8D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49FD-13DF-4EDE-8384-93BA0282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BD95-8FE1-4FAE-A8EF-FA313AE1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FA3A-8DCD-4ECD-A343-1EB27F10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7A2D-5C7E-495B-8C63-FEAAE775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A42D-A65A-4D98-824B-7587F2B6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D861-0E9E-4A78-BF9C-024614F1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4112-2027-4C6D-A449-B2AAB387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9557-D19D-42F7-A416-10DD0D84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F646F3-3EFD-4673-B0FA-F63A28DF53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