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1433-54CF-47BE-BFAB-920B0ABFC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7BDA-CEC3-4FF9-9755-77C2DFC2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1EDE-4312-4358-BFC3-AC4083BB7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D80A-8EB2-4718-8E5F-E58E3CCA4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C8E6-BE58-457C-834B-2F988574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C036-53DD-4113-A601-B9AF2706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2611-8C19-4FC3-9082-4EA1312B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627C-B303-4794-9D34-C8CEBA77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F3EC-3DE2-411E-9D70-1740E1E6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66BC-6C3B-4F79-9807-F388759F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4F60-3FFF-4B1F-ADDA-C7CD96A9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6E83-EB3D-47AC-B829-FD4FF503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509A-8E47-48D5-84F6-76834CCF8A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ruda: Mythical Link to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vanced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xcel Autom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lo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-import –declar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o [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create -alia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.ApplicationClas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$o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Visible tr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Application Dom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appdomain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Runn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run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v2.0.5072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Internal 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ump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ackageMutex 0x013CE958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hModule 0x1000000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ClrRuntimeHost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0x00626C50 bClrStarted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Package 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package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1.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fba64d41d7ee08985af28564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437fc26ead7c8ef6 {2011-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0-01 22:35:24 UTC}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R Manag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execu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a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aged Code Inte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tartu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ontro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eta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hutd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Garud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ruda is an open-source Tcl package capable of loading and interacting with the CL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primarily for use with Ea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work on Mono because it lacks the native CLR AP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TEA compliant; however, I would appreciate any help making it 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I install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Tcl 8.4 or hig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 files to a directory in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auto_pa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I load it?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mostly automatical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eagle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{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Eagle scrip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(optional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gnostic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The Tcl command (with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argument) used to log all 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lifecycle events and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calls.  May be defined as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no-o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logCom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rtup Configuration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ry rarely, if ever, requir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ssemblyPath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assembly fi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ype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qualified cla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Flag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see GarudaInt.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startupMethod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artu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Argument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extra ar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to-Loader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envV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rootRegistryKey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Bri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R Method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send "control" dir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control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detach Tcl interpr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detach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initiate bridge shut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hutdown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e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reate and invok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1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invok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$o1 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2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 –alias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$o2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7:00:00Z</dcterms:created>
  <dc:creator/>
  <dc:description/>
  <dc:language>en-US</dc:language>
  <cp:lastModifiedBy/>
  <dcterms:modified xsi:type="dcterms:W3CDTF">2011-10-22T02:42:25Z</dcterms:modified>
  <cp:revision>4</cp:revision>
  <dc:subject>Garuda</dc:subject>
  <dc:title>Garuda: Mythical Link to the CLR</dc:title>
</cp:coreProperties>
</file>