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79945"/>
        <c:axId val="80373745"/>
      </c:barChart>
      <c:catAx>
        <c:axId val="47879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3745"/>
        <c:crosses val="autoZero"/>
        <c:auto val="1"/>
        <c:lblAlgn val="ctr"/>
        <c:lblOffset val="100"/>
        <c:noMultiLvlLbl val="0"/>
      </c:catAx>
      <c:valAx>
        <c:axId val="8037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79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C3A-8CAA-4773-B333-55CD318F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FC3-1738-41E6-9D31-8C86CA48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7D3-16D3-4E2C-AAD7-58BB2F41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FDE-8DAD-41DF-9E38-7D744FFC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818-52A3-4B71-9805-E096B59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D9F-D5C5-499B-8E45-B59DA2F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0AB-4312-44B3-BDEF-F310F79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F0B-2047-4109-BFE9-DA782EF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BBF-7DDB-4225-A3A1-1BBF3774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0C4-078F-41D8-AFCA-5E50C977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668-B3D8-47C7-B42B-45237D56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1CF-53C8-4973-B5B5-43D5D93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EDBD-0A07-486C-913B-70D1F1EC07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