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50487"/>
        <c:axId val="41916984"/>
      </c:barChart>
      <c:catAx>
        <c:axId val="60050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6984"/>
        <c:crosses val="autoZero"/>
        <c:auto val="1"/>
        <c:lblAlgn val="ctr"/>
        <c:lblOffset val="100"/>
        <c:noMultiLvlLbl val="0"/>
      </c:catAx>
      <c:valAx>
        <c:axId val="41916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0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748-2454-42BC-8481-A74CB554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B83-369A-4763-A63C-3B050D4D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256-DFEE-4D37-80D1-C9F77F98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0A4-2C45-4739-8FD3-3B2D2F48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987-DDBB-4F4C-8BBC-DB0DC28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34B-2562-44A7-B7FD-591BA4B2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D3C-0AE5-4CF9-B58E-EB0AC9FB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E04-D40E-4BD9-9762-50EECC50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B43-AFA4-4A2A-A9DA-656AF3E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3AB-EDD2-4191-9D16-D924DC7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924-F143-4041-BB11-AE45F4E2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C20-DCE7-4A95-B206-97FE10D3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76D66-6665-458D-AEC4-A0E595082D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