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77528"/>
        <c:axId val="73279394"/>
      </c:barChart>
      <c:catAx>
        <c:axId val="64277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9394"/>
        <c:crosses val="autoZero"/>
        <c:auto val="1"/>
        <c:lblAlgn val="ctr"/>
        <c:lblOffset val="100"/>
        <c:noMultiLvlLbl val="0"/>
      </c:catAx>
      <c:valAx>
        <c:axId val="73279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7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523-68C9-4811-BA11-717B8455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5E3-88D5-4314-86BA-94F250A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36A-56F9-4056-9F83-3EE03ACC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AEF-1DB4-494B-B593-54E49530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D35-7601-4A5D-B80C-4B97FCD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915-F082-41D9-933B-AA89F32C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A96-A7F5-469C-B1AA-2C3C48E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30F-69C9-4635-BE5B-E2880112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FB8-DCF7-4D4B-A3C2-FACB99C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D26-FF5A-4CD2-AAAC-56F9CB1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227-A6ED-453C-B54E-33E07C9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2E0-A5CF-4041-AAF4-50B8C9F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D9E92-0012-48C1-B1D5-9B6FBA08DF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