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72856"/>
        <c:axId val="23222126"/>
      </c:barChart>
      <c:catAx>
        <c:axId val="52772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22126"/>
        <c:crosses val="autoZero"/>
        <c:auto val="1"/>
        <c:lblAlgn val="ctr"/>
        <c:lblOffset val="100"/>
        <c:noMultiLvlLbl val="0"/>
      </c:catAx>
      <c:valAx>
        <c:axId val="23222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72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4DE-D389-4A1B-A45B-D40FF791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557-6D69-42BE-AC6E-AAC82ED5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06A-E7F6-4E42-AAE1-786A6924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607-355A-4243-98D9-00978B56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F6C-7AC0-419C-9B42-625DC043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97B-B26C-4886-B5B7-8F165490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6C8-1F72-44E4-B155-354F2E1D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B4F-87B8-46B6-A006-DC1118D6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702-4F40-4E50-9408-91C1D94A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14F-E297-4F23-8DFC-0378DB4B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3C7-B955-4682-8999-F2ACBE15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282-671C-4446-8F34-ACB47B74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A5641-44EF-43E9-AEB9-57C3C5A643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